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D4EA8-ED35-4E56-9551-C3D6A4ADC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4C78A-B21E-4234-A4A7-0B8579C3F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1148F-7BD8-491C-B91D-1390D7C6A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9026B-09AA-415F-A98C-7707E73D1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7F531-47D4-400A-A918-205521CF0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962EB-1807-430E-B00C-32165FC26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76D90-B06D-442E-82AB-F35FAA609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2E08C-8D95-4CBD-AFBC-6C7ABE115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407B2-04AE-48BD-BCA6-DC37DAD88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41228-2A8B-4343-B94B-3F9488C0F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BF442-122F-4A24-9F57-F45CDF097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9DD48-D909-4662-A4E9-336358DFF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F7295-12B0-42EE-9F8A-7558A7B9E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2E9A8-50F0-485E-B0F4-1E5E28914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30B4C-12C3-471D-A876-C74111EB0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FBB3C-5983-45AE-9EE2-FBE67E480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D7D61-9C05-4C80-851C-10FA7378F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C5DD1-B5B9-487D-8AE2-B3AC85384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B10DB-CCD6-43F1-AAF2-DB2BEBFC0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6D3B2-31DE-4794-9FE6-3B456DB97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567C6-4034-4EDF-85E4-7BF8E8598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363F8-C2B5-48A9-88C7-F3B9F03BC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A47EF-6601-493E-B534-BE831D813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3818E-E29A-4E2E-9FAC-79DFC2810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FD43E-FFF1-4D8B-99C5-8C407DF7147A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95494-2910-48F9-B07E-76B75A283772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66"/>
                </a:solidFill>
                <a:latin typeface="Arial"/>
              </a:rPr>
              <a:t>第一章  经济全球化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66"/>
                </a:solidFill>
                <a:latin typeface="Arial"/>
              </a:rPr>
              <a:t>主要内容</a:t>
            </a: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1.</a:t>
            </a:r>
            <a:r>
              <a:rPr b="0" lang="zh-CN" sz="2000" spc="-1" strike="noStrike">
                <a:solidFill>
                  <a:srgbClr val="006666"/>
                </a:solidFill>
                <a:latin typeface="Arial"/>
              </a:rPr>
              <a:t>经济全球化的产生与发展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2.</a:t>
            </a:r>
            <a:r>
              <a:rPr b="0" lang="zh-CN" sz="2000" spc="-1" strike="noStrike">
                <a:solidFill>
                  <a:srgbClr val="006666"/>
                </a:solidFill>
                <a:latin typeface="Arial"/>
              </a:rPr>
              <a:t>经济全球化理论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3.</a:t>
            </a:r>
            <a:r>
              <a:rPr b="0" lang="zh-CN" sz="2000" spc="-1" strike="noStrike">
                <a:solidFill>
                  <a:srgbClr val="006666"/>
                </a:solidFill>
                <a:latin typeface="Arial"/>
              </a:rPr>
              <a:t>经济全球化的特征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4.</a:t>
            </a:r>
            <a:r>
              <a:rPr b="0" lang="zh-CN" sz="2000" spc="-1" strike="noStrike">
                <a:solidFill>
                  <a:srgbClr val="006666"/>
                </a:solidFill>
                <a:latin typeface="Arial"/>
              </a:rPr>
              <a:t>经济全球化的发展趋势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</a:rPr>
              <a:t>一、经济全球化的产生与发展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经济全球化的定义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）从资源配置角度的定义：资源配置的全球化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）从生产关系角度的定义：资本主义生产关系的全球普遍化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2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经济全球化的发展历史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）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9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世纪中期以前的萌芽阶段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）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9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世纪中期至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20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世纪初的生长阶段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3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）两次世界大战期间以及战后的曲折发展阶段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4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）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20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世纪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80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年代末而今的迅速扩展与深化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</a:rPr>
              <a:t>二、经济全球化理论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1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。跨国公司作用说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2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。技术进步说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3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。国际机构驱动说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4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。矛盾演化说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5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。综合因素说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----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世界政治环境的变化；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----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科学技术突破性发展；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----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跨国公司的全球战略；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----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新自由主义的兴起（国际组织奉行“华盛顿共识”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--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Washington Consensus</a:t>
            </a:r>
            <a:r>
              <a:rPr b="0" lang="zh-CN" sz="1400" spc="-1" strike="noStrike">
                <a:solidFill>
                  <a:srgbClr val="003366"/>
                </a:solidFill>
                <a:latin typeface="Arial"/>
              </a:rPr>
              <a:t>）最早由当时任世界银行官员的经济学家约翰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·</a:t>
            </a:r>
            <a:r>
              <a:rPr b="0" lang="zh-CN" sz="1400" spc="-1" strike="noStrike">
                <a:solidFill>
                  <a:srgbClr val="003366"/>
                </a:solidFill>
                <a:latin typeface="Arial"/>
              </a:rPr>
              <a:t>威廉姆森（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John Williamson</a:t>
            </a:r>
            <a:r>
              <a:rPr b="0" lang="zh-CN" sz="1400" spc="-1" strike="noStrike">
                <a:solidFill>
                  <a:srgbClr val="003366"/>
                </a:solidFill>
                <a:latin typeface="Arial"/>
              </a:rPr>
              <a:t>）于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1990</a:t>
            </a:r>
            <a:r>
              <a:rPr b="0" lang="zh-CN" sz="1400" spc="-1" strike="noStrike">
                <a:solidFill>
                  <a:srgbClr val="003366"/>
                </a:solidFill>
                <a:latin typeface="Arial"/>
              </a:rPr>
              <a:t>年提出。当时他提出这一“共识”基于拉美国家截至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80</a:t>
            </a:r>
            <a:r>
              <a:rPr b="0" lang="zh-CN" sz="1400" spc="-1" strike="noStrike">
                <a:solidFill>
                  <a:srgbClr val="003366"/>
                </a:solidFill>
                <a:latin typeface="Arial"/>
              </a:rPr>
              <a:t>年代末经济改革的既有成败经验，提出“共识”的意图是把它作为拉美国家经济改革的指导思想。“华盛顿共识”出台之后，得到了世界银行和国际货币基金组织的支持。主要内容：税收改革（降低边际税率和扩大税基）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400" spc="-1" strike="noStrike">
                <a:solidFill>
                  <a:srgbClr val="003366"/>
                </a:solidFill>
                <a:latin typeface="Arial"/>
              </a:rPr>
              <a:t>利率自由化，竞争性的汇率，贸易自由化，外国直接投资的流入自由化，私有化，放松管制（以消除进入或者退出障碍），保护产权。世界银行和国际货币基金组织等国际组织把“华盛顿共识”作为发展援助或者危机救援的 “前置条件”使用，推进经济自由化。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</a:rPr>
              <a:t>三、经济全球化的特征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1.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知识经济和新技术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信息技术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)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为基础的经济全球化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2.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国际分工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垂直型、水平型）日益深化的经济全球化；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3.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国际经济主体的多元化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国家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\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跨国公司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\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跨国银行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)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4.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市场体系的全球化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5.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经济全球化与国际间区域一体化和集团化并存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6.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一国的核心竞争力发生变化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: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知识和人力资本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7.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发达国家在经济全球化过程中起着主导作用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8.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全球化背景下更加凸显国家和民族利益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</a:rPr>
              <a:t>四、经济全球化的影响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1.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经济全球化对发达国家的影响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(1)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积极影响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: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拓展市场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;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促进贸易增长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;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扩大直接投资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;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竞争推动技术创新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(2)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消极影响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: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外部冲击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;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资源与环境问题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;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就业问题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2.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经济全球化对发展中国家的影响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(1)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机遇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: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吸引外资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;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引进外来直接投资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;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推动技术进步和产业调整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;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增强企业竞争力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跨国公司得以发展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);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贸易发展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(2)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不利影响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: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国际分工中的不利地位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;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外部冲击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;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发展中国家的发展不平衡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;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主权受到冲击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经济安全受到挑战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</a:rPr>
              <a:t>五、经济全球化发展趋势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。金融业在经济全球化中举足轻重；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。国际贸易进一步推动市场的一体化；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3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。跨国公司推动着全球化的深化；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4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。信息技术将彻底改变人类的生产与生活方式；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5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。经济风险全球化。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2T05:56:29Z</dcterms:created>
  <dc:creator>YPL</dc:creator>
  <dc:description/>
  <dc:language>en-US</dc:language>
  <cp:lastModifiedBy>Dell</cp:lastModifiedBy>
  <dcterms:modified xsi:type="dcterms:W3CDTF">2021-08-23T22:43:04Z</dcterms:modified>
  <cp:revision>15</cp:revision>
  <dc:subject/>
  <dc:title>第一章  经济全球化</dc:title>
</cp:coreProperties>
</file>